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함초롬돋움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함초롬돋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함초롬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함초롬돋움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함초롬돋움"/>
            </a:endParaRPr>
          </a:p>
          <a:p>
            <a:pPr lvl="2" marL="1143000" indent="-228600">
              <a:lnSpc>
                <a:spcPct val="110000"/>
              </a:lnSpc>
              <a:buClr>
                <a:srgbClr val="000000"/>
              </a:buClr>
              <a:buFont typeface="함초롬돋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함초롬돋움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함초롬돋움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함초롬돋움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함초롬돋움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함초롬돋움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함초롬돋움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함초롬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함초롬돋움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함초롬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함초롬돋움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28"/>
          <p:cNvSpPr/>
          <p:nvPr/>
        </p:nvSpPr>
        <p:spPr>
          <a:xfrm>
            <a:off x="163440" y="4506840"/>
            <a:ext cx="851076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출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2025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출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및 이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팀의 경우 팀명과 이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75" name="Rectangle 1029"/>
          <p:cNvSpPr/>
          <p:nvPr/>
        </p:nvSpPr>
        <p:spPr>
          <a:xfrm>
            <a:off x="3240" y="189000"/>
            <a:ext cx="53704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25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한국가족관계학회</a:t>
            </a:r>
            <a:endParaRPr b="0" lang="en-US" sz="1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76" name="Rectangle 1030"/>
          <p:cNvSpPr/>
          <p:nvPr/>
        </p:nvSpPr>
        <p:spPr>
          <a:xfrm>
            <a:off x="3240" y="484200"/>
            <a:ext cx="867096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족생활교육 프로그램 공모전</a:t>
            </a:r>
            <a:endParaRPr b="0" lang="en-US" sz="24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명</a:t>
            </a:r>
            <a:endParaRPr b="0" lang="en-US" sz="44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77" name="Rectangle 1031"/>
          <p:cNvSpPr/>
          <p:nvPr/>
        </p:nvSpPr>
        <p:spPr>
          <a:xfrm>
            <a:off x="352440" y="3160800"/>
            <a:ext cx="7561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주제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(Keywords): 5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개 내외</a:t>
            </a: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78" name="Rectangle 1032"/>
          <p:cNvSpPr/>
          <p:nvPr/>
        </p:nvSpPr>
        <p:spPr>
          <a:xfrm>
            <a:off x="352440" y="5373720"/>
            <a:ext cx="788976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1800" spc="-1" strike="noStrike">
                <a:solidFill>
                  <a:srgbClr val="0070c0"/>
                </a:solidFill>
                <a:latin typeface="굴림"/>
                <a:ea typeface="굴림"/>
              </a:rPr>
              <a:t>마지막 슬라이드에 있는 제안서 작성 요강을 </a:t>
            </a:r>
            <a:r>
              <a:rPr b="1" lang="ko-KR" sz="1800" spc="-1" strike="noStrike">
                <a:solidFill>
                  <a:srgbClr val="0066cc"/>
                </a:solidFill>
                <a:latin typeface="굴림"/>
                <a:ea typeface="굴림"/>
              </a:rPr>
              <a:t>반드시 참고하시기 바랍니다</a:t>
            </a:r>
            <a:r>
              <a:rPr b="1" lang="en-US" sz="1800" spc="-1" strike="noStrike">
                <a:solidFill>
                  <a:srgbClr val="0066cc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안서 작성 요강</a:t>
            </a: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512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형식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공된 슬라이드 내용 포함</a:t>
            </a: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함초롬돋움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저작권 문제가 없는 이미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폰트 사용</a:t>
            </a:r>
            <a:endParaRPr b="0" lang="en-US" sz="1400" spc="-1" strike="noStrike">
              <a:solidFill>
                <a:srgbClr val="000000"/>
              </a:solidFill>
              <a:latin typeface="함초롬돋움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함초롬돋움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애니메이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효과와 </a:t>
            </a:r>
            <a:r>
              <a:rPr b="1" lang="ko-KR" sz="14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동영상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</a:t>
            </a:r>
            <a:r>
              <a:rPr b="1" lang="ko-KR" sz="14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활용하지 않도록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함</a:t>
            </a:r>
            <a:endParaRPr b="0" lang="en-US" sz="1400" spc="-1" strike="noStrike">
              <a:solidFill>
                <a:srgbClr val="000000"/>
              </a:solidFill>
              <a:latin typeface="함초롬돋움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함초롬돋움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P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DF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제출가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PPT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출 시 글꼴을 포함하여 제출하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슬라이드 노트 사용 불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량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슬라이드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페이지 이내</a:t>
            </a: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글자크기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독성을 고려하여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4pt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으로 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연 설명이 길어질 경우 슬라이드 노트를 활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PT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제출할 경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슬라이드 노트가 존재한다는 것을 슬라이드 메모나 각주표시를 통해 안내할 것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문헌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포함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한국가족관계학회지 편집규정 형식으로 정리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9600" cy="11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사 기준 </a:t>
            </a:r>
            <a:endParaRPr b="0" lang="en-US" sz="3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512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사기준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함초롬돋움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98560" y="1916280"/>
          <a:ext cx="6481800" cy="2225520"/>
        </p:xfrm>
        <a:graphic>
          <a:graphicData uri="http://schemas.openxmlformats.org/drawingml/2006/table">
            <a:tbl>
              <a:tblPr/>
              <a:tblGrid>
                <a:gridCol w="5692680"/>
                <a:gridCol w="78912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함초롬돋움"/>
                        </a:rPr>
                        <a:t>평가 항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함초롬돋움"/>
                        </a:rPr>
                        <a:t>배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주제의 시의성 및 참신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10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문제 규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프로그램이 필요한 배경의 적절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20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목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-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목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-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실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-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평가의 유기적 연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20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프로그램 세부내용의 적절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30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프로그램 실현가능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20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함초롬돋움"/>
                        </a:rPr>
                        <a:t>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09480" y="189000"/>
            <a:ext cx="88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차</a:t>
            </a:r>
            <a:endParaRPr b="0" lang="en-US" sz="2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538200" y="1123920"/>
            <a:ext cx="75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가신청서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요약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의 필요성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의 목적 및 목표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세부 추진방법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평가방법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문헌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별첨</a:t>
            </a: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528920" y="185760"/>
            <a:ext cx="6084720" cy="43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i="1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팀 혹은 프로그램 특성에 따라 목차 및 세부내용의 일부 변경 가능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28"/>
          <p:cNvSpPr/>
          <p:nvPr/>
        </p:nvSpPr>
        <p:spPr>
          <a:xfrm>
            <a:off x="249120" y="189000"/>
            <a:ext cx="88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가신청서</a:t>
            </a:r>
            <a:endParaRPr b="0" lang="en-US" sz="2200" spc="-1" strike="noStrike">
              <a:solidFill>
                <a:srgbClr val="000000"/>
              </a:solidFill>
              <a:latin typeface="함초롬돋움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49120" y="692280"/>
          <a:ext cx="8569440" cy="6076800"/>
        </p:xfrm>
        <a:graphic>
          <a:graphicData uri="http://schemas.openxmlformats.org/drawingml/2006/table">
            <a:tbl>
              <a:tblPr/>
              <a:tblGrid>
                <a:gridCol w="1152720"/>
                <a:gridCol w="1258920"/>
                <a:gridCol w="1909800"/>
                <a:gridCol w="2708280"/>
                <a:gridCol w="1539720"/>
              </a:tblGrid>
              <a:tr h="512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□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생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□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원생  □기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로그램 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rowSpan="7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적사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및 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휴대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메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040">
                <a:tc gridSpan="5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팀은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24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한국가족관계학회 가족생활교육 프로그램 공모전 참여를 신청합니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2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월     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797120"/>
                          <a:tab algn="l" pos="2695680"/>
                          <a:tab algn="l" pos="3594240"/>
                          <a:tab algn="l" pos="4492800"/>
                          <a:tab algn="l" pos="5391000"/>
                          <a:tab algn="l" pos="6289560"/>
                          <a:tab algn="l" pos="7188120"/>
                          <a:tab algn="l" pos="8086680"/>
                          <a:tab algn="l" pos="8985240"/>
                          <a:tab algn="l" pos="9883800"/>
                          <a:tab algn="l" pos="10782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            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함초롬돋움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249120" y="260280"/>
            <a:ext cx="88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요약</a:t>
            </a: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1-2</a:t>
            </a:r>
            <a:r>
              <a:rPr b="1" lang="ko-KR" sz="2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페이지 이내 작성</a:t>
            </a:r>
            <a:r>
              <a:rPr b="1" lang="en-US" sz="2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98600" y="1413000"/>
            <a:ext cx="8072280" cy="1655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아래와 같은 내용 등이 포함되도록 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Summary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작성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프로그램 명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프로그램 목적과 목표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프로그램 세부 추진방법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프로그램 평가방법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49120" y="260280"/>
            <a:ext cx="88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의 필요성</a:t>
            </a:r>
            <a:endParaRPr b="0" lang="en-US" sz="2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98600" y="784080"/>
            <a:ext cx="8072280" cy="12034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아래와 같은 내용 등이 포함되도록 작성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해당 프로그램이 필요한 배경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예방하려는 문제 규정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요구 조사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이론 및 문헌 고찰 등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프로그램을 통해 창출되는 가치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249120" y="260280"/>
            <a:ext cx="88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의 목적 및 목표</a:t>
            </a:r>
            <a:endParaRPr b="0" lang="en-US" sz="2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98600" y="784080"/>
            <a:ext cx="8072280" cy="22132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15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프로그램 목적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goal)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프로그램을 통해 궁극적으로 달성하고자 하는 성과에 대한 추상적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일반적 진술로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표적집단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target audience)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명시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ko-KR" sz="15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프로그램 목표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objective)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프로그램 참여자의 지식 수준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태도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가치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동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기술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포부 등이 어떻게 ‘변화’할 것인지에 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대한 구체적 진술로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달성여부를 평가할 수 있는 형식이어야 함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49120" y="260280"/>
            <a:ext cx="88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세부 추진방법</a:t>
            </a:r>
            <a:endParaRPr b="0" lang="en-US" sz="2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34960" y="763560"/>
            <a:ext cx="8072640" cy="317016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아래와 같은 내용 등이 포함되도록 작성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시간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소요기간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회기수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회기별 소요시간 등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형식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대면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비대면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혼용 등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참여자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모집기준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모집방법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유지전략 등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인력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강사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실무자 등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회기별 세부내용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주제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활동별 세부사항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시간배분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준비물 등 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표 형식 권장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기타 고려사항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이미 실시한 프로그램은 교육자료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진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초상권 주의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)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 첨부 가능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여러 페이지에 걸쳐 작성 가능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49120" y="260280"/>
            <a:ext cx="88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평가방법</a:t>
            </a:r>
            <a:endParaRPr b="0" lang="en-US" sz="2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4960" y="836640"/>
            <a:ext cx="8072640" cy="2016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아래와 같은 내용 등이 포함되도록 작성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운영 측면 평가방법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효과 측면 평가방법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평가결과 환류방법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평가결과가 있는 프로그램의 경우</a:t>
            </a:r>
            <a:r>
              <a:rPr b="0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, </a:t>
            </a:r>
            <a:r>
              <a:rPr b="0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를 첨부할 수 있음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249120" y="263520"/>
            <a:ext cx="88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고문헌</a:t>
            </a:r>
            <a:endParaRPr b="0" lang="en-US" sz="2200" spc="-1" strike="noStrike">
              <a:solidFill>
                <a:srgbClr val="000000"/>
              </a:solidFill>
              <a:latin typeface="함초롬돋움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23880" y="907920"/>
            <a:ext cx="8072280" cy="1633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※ </a:t>
            </a:r>
            <a:r>
              <a:rPr b="0" i="1" lang="ko-KR" sz="15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한국가족관계학회지 참고문헌 형식을 활용하여 작성할 것</a:t>
            </a:r>
            <a:endParaRPr b="0" lang="en-US" sz="1500" spc="-1" strike="noStrike">
              <a:solidFill>
                <a:srgbClr val="000000"/>
              </a:solidFill>
              <a:latin typeface="함초롬돋움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58:10Z</dcterms:created>
  <dc:creator>yunyee</dc:creator>
  <dc:description/>
  <dc:language>en-US</dc:language>
  <cp:lastModifiedBy>USER</cp:lastModifiedBy>
  <cp:lastPrinted>2021-08-09T02:48:00Z</cp:lastPrinted>
  <dcterms:modified xsi:type="dcterms:W3CDTF">2025-08-26T05:36:48Z</dcterms:modified>
  <cp:revision>52</cp:revision>
  <dc:subject/>
  <dc:title>슬라이드 1</dc:title>
</cp:coreProperties>
</file>